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6B65-1F85-470E-8018-30167DACA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A7B9-C099-4A91-A8D8-5C99E892C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4853-5F36-4ABA-BA8B-CBA6FAE65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948D-3BD2-48F6-9EEF-BFFD9DFDA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B240F-2A4E-41F7-9877-13F81E356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0E4CB-2FC5-4215-B78C-74254B4A6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92B77-3D90-416A-A60C-58E2EEE5D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15176-5637-431E-A1AA-1604BC1C5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5F3F2-6F6E-4C6B-BA1F-968FC1052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8C8EA-8AA4-42F1-890F-E4223F2B4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B9496-5DD5-4C5E-855E-708BC653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F429-15F0-46C8-88E7-FCA3F52E7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57759-13B9-4F01-93C7-3820B643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C134B-188F-402D-AB80-0E14A3D4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5BF40-EFE5-4807-9C71-218027394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25D53-2DF7-441D-9509-A86C83232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CE503-C6D4-44CB-A94C-69DC11F4B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B257-803A-402C-A7CD-2E6FFC31F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0BD7-4149-446D-8B28-1A3B1FE6A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7383-2B49-4D9F-AF59-ED3F21090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FD5F-3EE0-4DFD-A86A-2DB1FFE78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C3A9-9796-4249-8028-5DC04C82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1964-A605-4DC1-836E-AB5F11D4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B51F-9D5B-4C2B-8C6F-09C6B6B3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57F44-BC1C-484C-AAA3-58F50D5F8A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D9205-678C-4E6F-BCD2-D865030518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ape-law.com/jonmorris/calamity/calamity.gif&amp;imgrefurl=http://ape-law.com/jonmorris/calamity/&amp;h=650&amp;w=702&amp;sz=88&amp;hl=en&amp;start=15&amp;tbnid=Wofg6ThkWwnaAM:&amp;tbnh=130&amp;tbnw=140&amp;prev=/images%3Fq%3Dcalamity%26svnum%3D10%26hl%3Den%26lr%3D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erriam.org/park/Senior/images/congregate-meals.jpg&amp;imgrefurl=http://www.merriam.org/park/Senior/congregate-meals.htm&amp;h=224&amp;w=300&amp;sz=22&amp;hl=en&amp;start=5&amp;tbnid=AvdTPPuOZcvMjM:&amp;tbnh=87&amp;tbnw=116&amp;prev=/images%3Fq%3Dcongregate%26svnum%3D10%26hl%3Den%26lr%3D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English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nuary 19, 20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liberatel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1) in a carefully thought out manner; on purpose; purpos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eliberatel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kept Glenda off the planning committee because we didn’t want her to know that the party was to be in her hon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spen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ollowed by the preposition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ith)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without; get along with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ubiou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ubtful; uncertain; question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no doubt about my feeling better, but it i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ubiou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at I can be back at school by tomorro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imidat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ighten; influence by fear; cow; overaw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coi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aw back because of fear; shrink; wince; flin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Exercise 1- Each expression in column one has a SYNONYM in column 2. On your paper, enter the letter of the correct SYNONYM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88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UMN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et for a specific purpo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imate frie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luence by fe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purpo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 withou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rmth of reg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aw back in fe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ubtful, uncert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sem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eat misfortu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105520" y="1828800"/>
            <a:ext cx="2133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257800" y="1600200"/>
            <a:ext cx="289548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LUMN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imid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pen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rdia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ubio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am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liberate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ve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o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on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greg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ssign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2 sentences using five words in each. Must make sens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finished grab a textbook. We are on page 452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haracters to think about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und-fully developed, seem re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at-one dimensional, only see one s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ic-doesn’t ch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ynamic-goes through a change during the sto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aturalism-things to rememb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ors try to depict life as it i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dea of humans being like puppets in natural circumstances outside of their control…can be circumstances in nature, or things like poverty, race, etc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Open Boat-page 45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ngs to think about as we rea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significance of the first lin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type of narrator do we have, why is it importan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is the horizon describ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graphs 3-6 introduce the four characters. What do we know and what can me infer about each of the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meant by the simile in the last paragraph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O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r going shopping for cloths i hope the children if they wish can come with me to main street to watch the thanksgiving day par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mophon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ll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pitaliz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per nou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per adjec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’re going shopping for clothes, I hope the children, if they wish, can come with me to Main Street to watch the Thanksgiving Day para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ings to think about cont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conflic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does the contrast between the two views imply about the people’s understandin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olor of the sea changed from slate to emerald green streaked with amber lights, and the foam was like tumbling snow.” What is this an example of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is this sentence ironic… “it was 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probabl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lendid, it was 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probab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glorious.”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it in the presence of the gulls that makes the men angry and viol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does the situation with the gulls reinforce the predicament of the me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ocused Freewrit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5 minut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$100,000 per year digging holes with a shovel?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$30,000 per year playing your favorite sport or doing something you love?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Vocabulary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t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the word does not have a sentence    with it, make one up as we go along.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lami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 misfortune; catastrophe; dis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3581280"/>
            <a:ext cx="3352680" cy="31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gregat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e together in a crowd; assemble; ga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homeowners near the school do not like students to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ongreg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n their proper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43400" y="4038480"/>
            <a:ext cx="32004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ve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et or come together in a group for a specific purp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657600" y="3962520"/>
            <a:ext cx="29383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rdiali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iendliness; warmth of reg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ron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e companion; good friend; ch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03:09:58Z</dcterms:created>
  <dc:creator>Angie</dc:creator>
  <dc:description/>
  <dc:language>en-US</dc:language>
  <cp:lastModifiedBy>Angie</cp:lastModifiedBy>
  <dcterms:modified xsi:type="dcterms:W3CDTF">2010-01-19T04:28:00Z</dcterms:modified>
  <cp:revision>3</cp:revision>
  <dc:subject/>
  <dc:title>English</dc:title>
</cp:coreProperties>
</file>